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F282-121F-4CD9-B9B9-84DA470D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7A92-9F1A-45FB-8F8C-88EBD78C427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CD98-80C3-431E-A581-AE9F71DED5B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fairy tales and its elements; compare and contrast elements; magical kingdom mural, after four weeks – asked to write a fairy tale, prewriting, conferencing,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: to see students “consciously incorporated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ele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their own stories (without suggesting they should be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“language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ther fairy tale deta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E58-732D-4CC4-B138-FD7870575F4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; high-ability students tend to be more metacognitively aware (Consciously aware of strategy use and thinking about think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137-F746-4938-B1ED-7D6852DEF7D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D787-758C-41B9-8AEC-E44145B7D6E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3732-A0EC-4D9B-A35F-8053A012F5F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B29-DE42-41A5-886C-83026FCC6BD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27D4-05E7-4F91-8748-4D331BBC00A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C357-F29D-4B7B-9462-840E0CE2FF1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0B6-DC5C-458A-A51B-E2C2A04B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427-CEAE-47F8-90F2-1601E914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BE4-E8FB-42CC-AF68-AE4D9131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F2C-3B99-48E7-87A1-DA04C0F7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7FB8-D580-4B32-96A7-27CAC570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BF5C-5034-462D-8A66-D62F6F0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A2B-5FF5-4187-9300-1D9E0402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81A2-A5B6-42C2-BFD4-4C0E2AC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DA10-5758-444E-BB90-6371E29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ED9-41F1-4045-AA80-240AB07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676B-FD1A-4044-A1C2-E868B44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E73-967E-4DA5-8097-1EE3DF3E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607-3EFC-4332-BC23-2757668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2C13-3EE4-4080-B79C-34E08C2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4BF4-A268-4555-86C9-BEB7420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6C3F-956D-413F-918F-024F07AE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E02B-289E-43F0-BF63-7167E107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F2A-303C-4154-BFEF-FF6BFFE9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1B5-CEA1-4A05-8781-648B7AA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316-08B4-426B-92B4-C73B516B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986-3B77-47D5-9F6C-5CE78A64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79C-D28F-445D-9ECB-377495A4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D3C-7772-403C-9B07-5EE5B1F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055-9BF9-4419-B78E-A1CDF19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627-6F9F-4D0F-AB73-1C1C9487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6F6-F4AD-4D82-AFE8-3F6F9280642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xt characteristics affect comprehension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 explicit as you teach students about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genre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text struc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Purpose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“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terven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took place?  Key ele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word splas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read lots of different stories (expose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compare/contrast in mini-less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wrote (process writing, key compon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was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the study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. connections to other fairy tales (intertextual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. conscious?  Unconscious? Connection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.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Key finding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1% (11/18 students) mad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scious connec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stories they had read previously (naming characters, borrowed plot details; synthesized several fairy tales into their writ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ynthesis was oft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nconsciou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whether the connections were to fairy tales or certain fairy tale elements (e.g., the lead, magical el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ll children, to some extent,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rnalize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phisticated sentence structure, rhythms, and poetic language of fairy tale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id that happen?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Key Practices to Foster Reading/Writing Conn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stering reading/writing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mmerse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in genre stud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 instruc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language and structure of each gen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lots of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osu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multiple texts and models before you expect students to write in that gen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: Why do you think that high-ability students tend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 while low-ability students seem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un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 Tuesday, October 2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nish Book Activity 3 Refle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nish Book Activity 4: Magic Treehouse (read and create five minute strategy script to present in clas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pter 5: (p. 142) and skim handouts on Expository Text Structures (in Text Difficulty handou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keep in mind with Magic Treehouse book – which mixes fiction, nonfiction, and fantas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arr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res &amp; text structu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amine several versions of Cinderella for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key elements of fairy tal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Reflect on the Prove It Process and connect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to key ideas in Bearse’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Fairy Tale</a:t>
            </a:r>
            <a:br>
              <a:rPr sz="2800"/>
            </a:b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    Conn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kinds of narrative texts should be in your classroom library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instorm as many “narrative genres” as you can in two minut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enres of Narrative Tex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aditional St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Folktales, Fairytales, Fables, Myths, Trickster Tales, Legends, Tall Ta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nimal, toy, science fiction, time fantasy, horr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ntemporary (sports, survival, school, family), historical, myste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etr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uplet, free verse, haiku, shape poems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ulticultural/International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tersecting, but representing specific cultur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59320" y="5875200"/>
            <a:ext cx="747756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F YOU HAVE ALL OF THE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AT’S STILL MISSING IN YOUR CLASSROOM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OSITORY TEXTS!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o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ository (text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oys love them!    Fosters personal inquiry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plicitly teach “reading to learn” rather than assume natural transition from learning to read to avoid “fourth grade slump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lements of Narrative Text Structur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alistic (specific or anytown USA), fictional, or 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ealed through words, actions, and descri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eginning/Middle/End &gt; Conflict and Resolu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unifying truth, universal message (big idea stat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ructure, figurative language, mood, irony, humo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who’s telling the story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Comprehension &amp; Response Structures  </a:t>
            </a:r>
            <a:br>
              <a:rPr sz="32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During &amp; After Reading Narrative Texts)</a:t>
            </a: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RETELLING…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3" descr="Screen shot 2011-10-19 at 9.54.19 PM.png"/>
          <p:cNvPicPr/>
          <p:nvPr/>
        </p:nvPicPr>
        <p:blipFill>
          <a:blip r:embed="rId1"/>
          <a:stretch/>
        </p:blipFill>
        <p:spPr>
          <a:xfrm>
            <a:off x="457200" y="2971800"/>
            <a:ext cx="337356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985920" y="2209680"/>
            <a:ext cx="4620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/M/E – 3 sentences/paragraph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10080" y="3276720"/>
            <a:ext cx="3771360" cy="459720"/>
          </a:xfrm>
          <a:prstGeom prst="rect">
            <a:avLst/>
          </a:prstGeom>
          <a:solidFill>
            <a:srgbClr val="f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mebody/Wanted/But/S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16920" y="4191120"/>
            <a:ext cx="3675240" cy="45972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quence Events&gt;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798440" y="5037120"/>
            <a:ext cx="3227040" cy="825480"/>
          </a:xfrm>
          <a:prstGeom prst="rect">
            <a:avLst/>
          </a:prstGeom>
          <a:solidFill>
            <a:srgbClr val="00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/Feelings an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lution/Feel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raditional Tales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an You Prove It’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Fairy Tal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Multicultural Literatur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flect differences in cultural beliefs and what’s important in lif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s this effective for teaching elements of a particular genr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nefits of this activity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nefits of the intervention i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Bearse article for reading &amp;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1:50:04Z</dcterms:created>
  <dc:creator>Julie Coiro</dc:creator>
  <dc:description/>
  <dc:language>en-US</dc:language>
  <cp:lastModifiedBy>Julie Coiro</cp:lastModifiedBy>
  <cp:lastPrinted>2010-10-05T01:50:07Z</cp:lastPrinted>
  <dcterms:modified xsi:type="dcterms:W3CDTF">2011-10-20T03:00:56Z</dcterms:modified>
  <cp:revision>207</cp:revision>
  <dc:subject/>
  <dc:title>Metacognitive Strategy Instruction to Enhance Reading Comprehension</dc:title>
</cp:coreProperties>
</file>